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9B5A8-ECE0-4C0A-8ACC-17BCFE38B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019D9-8DB3-49A2-B7D3-4E6495106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EC61E-0934-45C4-A92A-4175D3485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B2AB1-D7F3-42B3-ADCB-599542497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A6081-386C-4C2C-A750-DF3CFCE04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15FB5-91AF-406E-95C5-E24020D22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02A47-DA01-40BF-A407-C0E64C7C0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1D6F8-3123-4AB9-BDAD-702A99722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12A72-B59E-4EF9-A032-BECDBF637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D29A4-A430-4CD0-9B8A-2196DC655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4478F-68E1-470C-A408-BE28275FE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C8087-3D8E-4B75-9E17-EFB54093A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D635B-B20A-4593-8EDA-A427D9CFA7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epoli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 Rush</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Musk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e will Do</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e/ Evaluate the role of the US in Iran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the causes of the Islamic Revolution</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causes of oppression by the Shah and Islamic Fundamentalists</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 History of Ira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is the autho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read a Graphic Novel</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Chapter 1.</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ticipation Guide from Introducation</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 1.  Iran has always been rich.</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 2.  Iran is the site of one of the great Ancient empires- the Persian Empir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 3.  The Iranians fought against Germany in World War II.</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 4.  The Americans overthrew the Iranian government in the 1950’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 The Bicycle</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page 10, the Marjorie’s friend says “The Revolution is like a bicycle.  When its wheels don’t turn, it falls.”  What does she mean by thi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a revolution a good thing?  Why or why no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  The Bicylc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n to page 11.</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Iran’s history?  Who controlled Iran?  How might this history impact Ir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 The Bicycl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end of the chapter, Marjane asks to demonstrate against the government.  Would you let your child demonstrate and be “a part of history” or would you make her stay at home for safety’s sak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your positio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3 facts from the stor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1 counterargument and why you disag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21:27:27Z</dcterms:created>
  <dc:creator>Rick Davis</dc:creator>
  <dc:description/>
  <dc:language>en-US</dc:language>
  <cp:lastModifiedBy>Rick Davis</cp:lastModifiedBy>
  <dcterms:modified xsi:type="dcterms:W3CDTF">2011-02-24T00:24:54Z</dcterms:modified>
  <cp:revision>2</cp:revision>
  <dc:subject/>
  <dc:title>Persepolis</dc:title>
</cp:coreProperties>
</file>